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EDA-B594-492A-8B28-76DCDA96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DB4-574D-481A-9B75-47E47792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611-ACC3-456B-98C9-19973518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A6C-EF63-4C02-98CA-0E8AB1F3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6A61-C8D9-4512-9376-8ECCEB25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6B90-926F-4CE8-A05E-D9D9E8BB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4EB-FACE-43CD-AC4B-1410541F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0F7-1F6D-4CB2-B1FE-2798D54B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127-D834-4FD9-8E7B-E4AA0F23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42B-F3D0-4635-875E-5A868D5B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80C-3A38-4A87-B4C0-2CABA700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FE3-B3AD-4FDB-BB77-2B984C65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05F3-1A70-4067-B804-D73755D3A674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CONSTITUIREA STATELOR MEDIEVALE ÎN SPAȚIUL ROMÂNES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5840"/>
            <a:ext cx="72864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125000"/>
            <a:ext cx="4751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ocesul european de constituire a statelor medievale s-a înregistrat şi în spaţiul românesc. Au existat premise interne şi exte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interne au fost diverse: creşterea demografică, determinată de dărnicia pământului, resursele solului şi subsolului, configuraţia reliefului, care au asigurat protecţia românilor în vremuri de restrişte; dezvoltarea economică (agricultura, meşteşugurile, creşterea vitelor, comerţul, circulaţia monetară); evoluţia politico-socială, care a condus la procesul de feudalizare, realizându-se trecerea de la uniunile de obşti (romanii populare) la constituirea primelor formaţiuni politice numite cnezate şi voievodate, conduse de cneji, respectiv voievozi. Aceştia aveau atribuţii militare, politice, judecătoreşti şi administrative.[…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 particularitate o reprezintă contribuţia românilor din Transilvania la geneza statelor extracarpatice (Ţara Românească şi Moldova) reflectată în tradiţia descălecatulu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misele externe au stimulat procesul de constituire a statelor medievale. Astfel, prezenţa cumanilor (aceştia au organizat în secolele XI-XIII un stat în câmpia nord-dunăreană) şi a tătarilor (Hanatul Hoardei de Aur în nordul Mării Negre) a creat un echilibru de forţe care a împiedicat Regatul Ungaria, Imperiul Bizantin şi statele ruse Kiev şi Halici să-şi extindă dominaţia asupra spaţiului românes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asemenea, un fapt notabil l-a reprezentat criza internă din Regatul Ungariei, determinată de luptele pentru tron apărute în urma stingerii dinastiei arpadiene, în anul 1301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6" descr="denush.jpg"/>
          <p:cNvPicPr/>
          <p:nvPr/>
        </p:nvPicPr>
        <p:blipFill>
          <a:blip r:embed="rId1"/>
          <a:stretch/>
        </p:blipFill>
        <p:spPr>
          <a:xfrm>
            <a:off x="5435640" y="2276640"/>
            <a:ext cx="32385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iploma ioaniţilor este atestată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2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4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Formaţiunile politice din Dobrogea sunt unificate 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l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asarab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săvârşirea unificării Moldovei aparţine voievodulu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rago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etru Muș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Ordonaţi cronolog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upta de la Pos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descălecatul” lui Negru Vod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Leustachi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Roman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obrotic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NEE</dc:creator>
  <dc:description/>
  <dc:language>en-US</dc:language>
  <cp:lastModifiedBy>Guest</cp:lastModifiedBy>
  <dcterms:modified xsi:type="dcterms:W3CDTF">2012-03-08T12:46:19Z</dcterms:modified>
  <cp:revision>2</cp:revision>
  <dc:subject>CNEE</dc:subject>
  <dc:title>CNEE</dc:title>
</cp:coreProperties>
</file>